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2B2-3B73-4700-A9FE-E160F9A6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1252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641680"/>
            <a:ext cx="1036332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5507640"/>
            <a:ext cx="1036332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E9D-658F-44B5-BF63-9B2FE565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1252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641680"/>
            <a:ext cx="505728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4400" y="2641680"/>
            <a:ext cx="505728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5507640"/>
            <a:ext cx="505728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4400" y="5507640"/>
            <a:ext cx="505728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CDD-4ABE-4B7F-B8C6-A51C72DE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1252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641680"/>
            <a:ext cx="333684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8280" y="2641680"/>
            <a:ext cx="333684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22160" y="2641680"/>
            <a:ext cx="333684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5507640"/>
            <a:ext cx="333684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8280" y="5507640"/>
            <a:ext cx="333684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22160" y="5507640"/>
            <a:ext cx="333684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43B-1D7A-4D79-BE5D-E3E5E8AE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1252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641680"/>
            <a:ext cx="103633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384-4066-4B80-B71E-1251950A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1252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641680"/>
            <a:ext cx="10363320" cy="54864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0F5-129B-4203-B361-FA3FB2A4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1252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641680"/>
            <a:ext cx="5057280" cy="54864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4400" y="2641680"/>
            <a:ext cx="5057280" cy="54864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122-830A-42DD-8435-ECD7B98E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1252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09E-59CC-41AD-A5D4-A2E0F068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12520"/>
            <a:ext cx="103633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0FD-F0C6-4489-842A-6FE365E5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1252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641680"/>
            <a:ext cx="505728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400" y="2641680"/>
            <a:ext cx="5057280" cy="54864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5507640"/>
            <a:ext cx="505728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D9D-48F6-483D-A6BB-8900BA80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1252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641680"/>
            <a:ext cx="5057280" cy="54864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4400" y="2641680"/>
            <a:ext cx="505728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4400" y="5507640"/>
            <a:ext cx="505728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BC2-2E11-4EC3-9F8B-4BC1D65B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1252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641680"/>
            <a:ext cx="505728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4400" y="2641680"/>
            <a:ext cx="505728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5507640"/>
            <a:ext cx="10363320" cy="261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5F1-AE78-441C-A253-41AFCCA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81252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641680"/>
            <a:ext cx="10363320" cy="54864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9000"/>
          </a:bodyPr>
          <a:p>
            <a:pPr marL="452520" indent="-452520">
              <a:spcBef>
                <a:spcPts val="1074"/>
              </a:spcBef>
              <a:buClr>
                <a:srgbClr val="000000"/>
              </a:buClr>
              <a:buFont typeface="Times New Roman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377280">
              <a:spcBef>
                <a:spcPts val="1074"/>
              </a:spcBef>
              <a:buClr>
                <a:srgbClr val="000000"/>
              </a:buClr>
              <a:buFont typeface="Times New Roman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8400" indent="-301320">
              <a:spcBef>
                <a:spcPts val="1074"/>
              </a:spcBef>
              <a:buClr>
                <a:srgbClr val="000000"/>
              </a:buClr>
              <a:buFont typeface="Times New Roman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3" marL="2112120" indent="-301680">
              <a:spcBef>
                <a:spcPts val="1074"/>
              </a:spcBef>
              <a:buClr>
                <a:srgbClr val="000000"/>
              </a:buClr>
              <a:buFont typeface="Times New Roman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4" marL="2715480" indent="-301680">
              <a:spcBef>
                <a:spcPts val="1074"/>
              </a:spcBef>
              <a:buClr>
                <a:srgbClr val="000000"/>
              </a:buClr>
              <a:buFont typeface="Times New Roman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5" marL="2715480" indent="-301680">
              <a:spcBef>
                <a:spcPts val="1074"/>
              </a:spcBef>
              <a:buClr>
                <a:srgbClr val="000000"/>
              </a:buClr>
              <a:buFont typeface="Times New Roman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6" marL="2715480" indent="-301680">
              <a:spcBef>
                <a:spcPts val="1074"/>
              </a:spcBef>
              <a:buClr>
                <a:srgbClr val="000000"/>
              </a:buClr>
              <a:buFont typeface="Times New Roman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8331120"/>
            <a:ext cx="2540160" cy="609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8331120"/>
            <a:ext cx="3861000" cy="609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8331120"/>
            <a:ext cx="2540160" cy="609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65369FB-DA06-4E2F-A51C-CAFEA586D749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d0f4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438640" cy="73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3034800"/>
            <a:ext cx="929628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Come Diventare nr.1 Mondiale grazie al telelavor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- Villa Erba di Cernobbio,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3-24 Marzo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ançois Hoff - www.texmondo.com - ITIT - 24/03/2000 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d0f4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438640" cy="73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2880" y="532440"/>
            <a:ext cx="60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Come Diventare nr.1 Mondiale grazie al telelavor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1051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87840" y="181188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Introd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2880" y="2282400"/>
            <a:ext cx="9227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 telelavoro non è un tema nuovo  pero nei fatti non ha ancora avuto uno sviluppo all ’altezza delle sue possibilità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diamo ora cosa può fare concretamente per il settore tessile-abbigl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71440" y="3351960"/>
            <a:ext cx="16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Il Cont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9760" y="3958920"/>
            <a:ext cx="7750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Definizione del telelavoro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« Tutti i lavori coordinati realizzati in posti geograficamente dista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 attività che richiedono l ’accesso a risorse fisicamente ubicate in luoghi lontani dal domicilio 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8320" y="5110560"/>
            <a:ext cx="54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l tema Telelavoro e quello di Internet sono intimamente leg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ançois Hoff - www.texmondo.com - ITIT - 24/03/2000 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d0f4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438640" cy="736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52880" y="532440"/>
            <a:ext cx="60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Come Diventare nr.1 Mondiale grazie al telelavor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219320"/>
            <a:ext cx="1051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6040" y="1605600"/>
            <a:ext cx="82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Le Specificità di Interne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net è intimamente legato al tema telelavoro e alla redditività aziend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nternetdiag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6248520" cy="50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162920" y="2997360"/>
            <a:ext cx="487656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Rete Mondiale che collega milioni di compu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Una crescita esponienzale grazie al W.W.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Già oltre 200 milioni di ut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1 miliardo di pagine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&gt; GRATU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Esempi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gt; 100 pagine spedite via FAX = ca. Lit. 80.000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41,3 Eu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gt; 100 pagine spedite via Email = ca. Lit. 130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0,07 Eu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ançois Hoff - www.texmondo.com - ITIT - 24/03/2000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d0f4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438640" cy="73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52880" y="532440"/>
            <a:ext cx="60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Come Diventare nr.1 Mondiale grazie al telelavor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219320"/>
            <a:ext cx="1051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84960" y="1523160"/>
            <a:ext cx="606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Il Telelavoro, Internet e il Tessile-abbigl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91600" y="1930680"/>
            <a:ext cx="69944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) Per restare competitive le aziende devono integrare Internet nel loro funzio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) L ’uso di Internet apre la strada al tele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Perchè il telelavoro e non semplicemente il lavoro in ufficio con Internet ?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 vantaggi principali del Telelavor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ggiore produttiv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ggiore flessibi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mpatto ambientale e demografico posi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glioramento globale della qualità di v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Una soluzione concreta alla crisi di compet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65.000 posti di lavoro non coperti negli USA, 61.000 in Francia,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c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gt; Il telelavoro non è un utopia. Funziona. Vediamo ora qualche esemp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ançois Hoff - www.texmondo.com - ITIT - 24/03/2000 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d0f4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438640" cy="73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52880" y="532440"/>
            <a:ext cx="60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Come Diventare nr.1 Mondiale grazie al telelavor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219320"/>
            <a:ext cx="1051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2760" y="1599120"/>
            <a:ext cx="87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2 Esempi concreti di telelavoro applicato : TEXMONDO e 3D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51840" y="2248200"/>
            <a:ext cx="95439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Scheda Tecnica TEXMOND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TEXMONDO.COM - Aperto su Internet da Gennaio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ormazioni e banca dati aziende per i professionisti del tessile-abbigliamento, dal produttore di fibre al confezion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ultilingue: Italiano, Francese, Inglese, Tede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. 15.000 pag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ltre 10.000 visitatori mensili da 53 paesi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esentato in varie fiere tessili in Italia e all ’est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Scheda Tecnica 3DCAST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3DCASTING.COM - Aperto su Internet da Febbraio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imazione interattiva in 3 Dimensioni di modelle e capi d ’abbigli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ultilingue: Italiano, Francese, Ingle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esentato alla fiera INTIMARE (Bolog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&gt; INTERAMENTE GESTITO DA TELELAVORATORI in Italia e all ’est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ecrantexm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68" name="ecran3dcast" descr=""/>
          <p:cNvPicPr/>
          <p:nvPr/>
        </p:nvPicPr>
        <p:blipFill>
          <a:blip r:embed="rId3"/>
          <a:stretch/>
        </p:blipFill>
        <p:spPr>
          <a:xfrm>
            <a:off x="7543800" y="57150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ançois Hoff - www.texmondo.com - ITIT - 24/03/2000 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d0f4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438640" cy="736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52880" y="532440"/>
            <a:ext cx="60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Come Diventare nr.1 Mondiale grazie al telelavor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219320"/>
            <a:ext cx="1051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07840" y="1599120"/>
            <a:ext cx="50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TEXMONDO e 3DCASTING : I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61560" y="2412720"/>
            <a:ext cx="794844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Organizzazio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 sedi principali: Milano (Italia), Bruxelles (Belgio), Montpellier (Franc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 una a dieci persone in ogni se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rver in Belgio, contenuto aggiornato tramite FTP da Milano, traduzioni realizzate a Montpelli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llaboratori occasionali negli Stati Uniti, in Rumania e in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unicazioni e trasmissioni dati tramite Internet (posta elettronica e FT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l materiale usato è standa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 Server UNIX (in Belg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uter Macinto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uter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cchine fotografiche digitali, Sc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ampanti laser b/n, colori. Stampanti a getto d ’inchio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ee telefoniche standard e ISD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ecrantexm" descr=""/>
          <p:cNvPicPr/>
          <p:nvPr/>
        </p:nvPicPr>
        <p:blipFill>
          <a:blip r:embed="rId2"/>
          <a:stretch/>
        </p:blipFill>
        <p:spPr>
          <a:xfrm>
            <a:off x="7467480" y="3733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ecran3dcast" descr=""/>
          <p:cNvPicPr/>
          <p:nvPr/>
        </p:nvPicPr>
        <p:blipFill>
          <a:blip r:embed="rId3"/>
          <a:stretch/>
        </p:blipFill>
        <p:spPr>
          <a:xfrm>
            <a:off x="6400800" y="60199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ançois Hoff - www.texmondo.com - ITIT - 24/03/2000 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d0f4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438640" cy="73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52880" y="532440"/>
            <a:ext cx="60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Come Diventare nr.1 Mondiale grazie al telelavor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219320"/>
            <a:ext cx="1051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5360" y="159912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Il telelavoro anche per l ’industria tessile-abbigliamento tradi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3160" y="2234880"/>
            <a:ext cx="8352360" cy="64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attività che richiedono la presenza fisica di una persona non possono essere sostituite dal tele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 ci sono comunque delle possibilità di trarre vantaggi competitivi da Internet e dal telelavor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Intervento remoto sulle linee di produzione di tessuto non tessuto (Non Wov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Videoconferenza per dialogare con i terzisti: L ’esempio delle aziende del « Sentier 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Lavoro d ’ufficio tradizionale realizzato parzialmente 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Vincoli e limiti del telelavoro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ichiede persone autonome (carattere e conoscenze informatich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rutture e mezzi di comunicazioni stabili ed affidabi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i consiglia inoltr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gt; di mantenere un contatto diretto e regolare con i telelavor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gt; di scegliere persone che già conoscono l ’azien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ançois Hoff - www.texmondo.com - ITIT - 24/03/2000 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d0f4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438640" cy="73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52880" y="532440"/>
            <a:ext cx="60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Come Diventare nr.1 Mondiale grazie al telelavor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19320"/>
            <a:ext cx="1051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7400" y="1599120"/>
            <a:ext cx="21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Per conclud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0480" y="2333880"/>
            <a:ext cx="108763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l Telelavoro e Internet hanno un potenziale immenso e offrono vantaggi concreti alle aziende del tessile-abbigliament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vviamente hanno limiti e non bastano da soli a garantire il successo.  Per diventare leader nel proprio setto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i vuole anche ben altr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esta comunque un fatto: </a:t>
            </a: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NON prendere in considerazione -a priori- le possibilità offerte dal telelavoro e Internet rapprese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un rischio molto serio per la redditività aziendale e di conseguenza un handicap nella corsa al posto di nr. 1 mondiale.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ançois Hoff - www.texmondo.com - ITIT - 24/03/2000 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d0f4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438640" cy="73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52880" y="532440"/>
            <a:ext cx="60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Come Diventare nr.1 Mondiale grazie al telelavor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1051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19480" y="1599120"/>
            <a:ext cx="38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Alcuni siti web sul tele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2960" y="2124720"/>
            <a:ext cx="9987840" cy="61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Siti internazional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telecommunte.org (The International Telework Associ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ispo.cec.be/g7/backg/telework.html (Commissione europ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tweuro.com (Programmi : TAP – Telematics Applications Programme e TURA – Telematics for Urban and Rural are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talia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societaitalianatelelavoro.it (SIT – Società Italiana Telelavo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unipi.it/pari-opp/tele/ (Università degli Studi du Pisa) . Molti link verso gli altri siti sul telelavoro quali, per esempio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Austria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ata.at (Österreichische Telearbeitvereinigung – Austrian Telework Associ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Belgio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bta.be (Belgian Teleworking Associ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Francia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aftt.net (Association Française du Télétrava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Germania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vtd.org (Verband Telearbeit Deutschl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Grecia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ww.teleworking.g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ançois Hoff - www.texmondo.com - ITIT - 24/03/2000 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20:52:18Z</dcterms:created>
  <dc:creator>Hoff</dc:creator>
  <dc:description/>
  <dc:language>en-US</dc:language>
  <cp:lastModifiedBy>fh</cp:lastModifiedBy>
  <dcterms:modified xsi:type="dcterms:W3CDTF">2000-03-22T16:06:59Z</dcterms:modified>
  <cp:revision>32</cp:revision>
  <dc:subject/>
  <dc:title>Aucun titre de diapositive</dc:title>
</cp:coreProperties>
</file>